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225E-8EBD-4888-9FBE-3873EDD2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760-999E-4419-9B0F-AFB3F71E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6FD-06C5-42BE-883E-79307892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571-23F7-4395-9AA5-1BFBCA2B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F038-3915-420E-B00E-BB09DA95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820E-683D-4089-84A7-A7B518C5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697D-0A25-4B49-A2B5-614D88B8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E4D5-7860-4F2E-BE10-73D4CBBA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3DE-968D-4274-A7B0-15E90726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A028-9909-43DD-944C-047DEAB0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3C62-C1BC-4BE8-A872-FA873457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300B-CCE3-4713-A069-6499F72A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F1B2-6AD5-4780-8EF1-12E5F28BE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T 640 Powerpoint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lide/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trl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Trans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Slid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 tran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your tran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ch the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ch Bullet Comes in individu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 one bu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Sc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t a Hand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and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ages—click 3 to give a handout and will leave room for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to Web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your Home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 thi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green tree 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Browse the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your Saved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7:12:49Z</dcterms:created>
  <dc:creator>Administrator</dc:creator>
  <dc:description/>
  <dc:language>en-US</dc:language>
  <cp:lastModifiedBy>Cambridge College</cp:lastModifiedBy>
  <dcterms:modified xsi:type="dcterms:W3CDTF">2008-11-03T21:32:35Z</dcterms:modified>
  <cp:revision>3</cp:revision>
  <dc:subject/>
  <dc:title>EIT 640 Powerpoint Presentation</dc:title>
</cp:coreProperties>
</file>